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AF6-56B8-4F3A-BCAF-4702E608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768-8F87-468D-9B26-A83C2EC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4A7-9E18-48C4-B445-2AF924C0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182-0836-4667-9ED8-EDB0D184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AF4-DD22-485D-900E-AEC499F9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AEF-DAFE-4469-B1B7-A22CAA9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17D-8E80-4552-A491-05DE7E67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DA9-D475-4595-9458-827347BF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8A9-9AAC-4926-BB99-37BDA23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016-5575-47DD-A36B-A7950F16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996-2524-45DB-AAB8-53AE9DA1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093-7755-45C7-89CE-319873A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A6CC-7845-41AD-8943-C3B04915C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Verb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s. E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an Action Verb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ction verb is a word that shows 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C:\WINDOWS\Application Data\Microsoft\Media Catalog\Downloaded Clips\cl73\j0288932.gif"/>
          <p:cNvPicPr/>
          <p:nvPr/>
        </p:nvPicPr>
        <p:blipFill>
          <a:blip r:embed="rId1"/>
          <a:stretch/>
        </p:blipFill>
        <p:spPr>
          <a:xfrm>
            <a:off x="3276720" y="2895480"/>
            <a:ext cx="2361960" cy="3124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is the Action Verb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nie sings a so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ction verb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ke plays the guit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ction verb is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il ties his sho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lap our h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Action Verb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verbs describe actions that can be hard to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mp is easy to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tch, make, see, lik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harder to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>
            <a:hlinkClick r:id="rId1"/>
          </p:cNvPr>
          <p:cNvSpPr/>
          <p:nvPr/>
        </p:nvSpPr>
        <p:spPr>
          <a:xfrm>
            <a:off x="2057400" y="5638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8406"/>
                </a:moveTo>
                <a:lnTo>
                  <a:pt x="11818" y="8406"/>
                </a:lnTo>
                <a:lnTo>
                  <a:pt x="16240" y="3794"/>
                </a:lnTo>
                <a:lnTo>
                  <a:pt x="16240" y="17806"/>
                </a:lnTo>
                <a:lnTo>
                  <a:pt x="11818" y="13194"/>
                </a:lnTo>
                <a:lnTo>
                  <a:pt x="7388" y="13194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21401" y="10800"/>
                </a:lnTo>
              </a:path>
              <a:path fill="darken" w="28789" h="21600">
                <a:moveTo>
                  <a:pt x="17893" y="8406"/>
                </a:moveTo>
                <a:lnTo>
                  <a:pt x="21401" y="5639"/>
                </a:lnTo>
              </a:path>
              <a:path fill="darken" w="28789" h="21600">
                <a:moveTo>
                  <a:pt x="17893" y="13194"/>
                </a:moveTo>
                <a:lnTo>
                  <a:pt x="21401" y="15961"/>
                </a:ln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y use sign langu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we see the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es likes the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WINDOWS\Application Data\Microsoft\Media Catalog\Downloaded Clips\cl7f\j0318069.gif"/>
          <p:cNvPicPr/>
          <p:nvPr/>
        </p:nvPicPr>
        <p:blipFill>
          <a:blip r:embed="rId1"/>
          <a:stretch/>
        </p:blipFill>
        <p:spPr>
          <a:xfrm>
            <a:off x="5715000" y="3505320"/>
            <a:ext cx="2590920" cy="143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Practice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augh with my fri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come from all o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dance with the mus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WINDOWS\Application Data\Microsoft\Media Catalog\Downloaded Clips\cl72\j0286709.gif"/>
          <p:cNvPicPr/>
          <p:nvPr/>
        </p:nvPicPr>
        <p:blipFill>
          <a:blip r:embed="rId1"/>
          <a:stretch/>
        </p:blipFill>
        <p:spPr>
          <a:xfrm>
            <a:off x="6248520" y="2209680"/>
            <a:ext cx="1981080" cy="281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3:43:38Z</dcterms:created>
  <dc:creator>ucboe ucboe</dc:creator>
  <dc:description/>
  <dc:language>en-US</dc:language>
  <cp:lastModifiedBy>teacher</cp:lastModifiedBy>
  <dcterms:modified xsi:type="dcterms:W3CDTF">2010-11-06T19:39:21Z</dcterms:modified>
  <cp:revision>4</cp:revision>
  <dc:subject/>
  <dc:title>Action Verbs</dc:title>
</cp:coreProperties>
</file>